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0CBEA9C-F3C1-49D1-8522-24636372B43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DC1159D-4F7E-4804-ADA3-086E62BC4AF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693720" y="739800"/>
            <a:ext cx="5346720" cy="3701880"/>
          </a:xfrm>
          <a:prstGeom prst="rect">
            <a:avLst/>
          </a:prstGeom>
          <a:ln w="0">
            <a:noFill/>
          </a:ln>
        </p:spPr>
      </p:sp>
      <p:sp>
        <p:nvSpPr>
          <p:cNvPr id="31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93720" y="739800"/>
            <a:ext cx="5346720" cy="3701880"/>
          </a:xfrm>
          <a:prstGeom prst="rect">
            <a:avLst/>
          </a:prstGeom>
          <a:ln w="0">
            <a:noFill/>
          </a:ln>
        </p:spPr>
      </p:sp>
      <p:sp>
        <p:nvSpPr>
          <p:cNvPr id="32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6338E01-21FE-4B46-92C9-FDC3EF6E3EE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695160" y="739800"/>
            <a:ext cx="5345280" cy="3701880"/>
          </a:xfrm>
          <a:prstGeom prst="rect">
            <a:avLst/>
          </a:prstGeom>
          <a:ln w="0">
            <a:noFill/>
          </a:ln>
        </p:spPr>
      </p:sp>
      <p:sp>
        <p:nvSpPr>
          <p:cNvPr id="327"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1464F8-2894-43C1-81EB-0CFD8E8E92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7C1B28-4D54-46B6-BFBE-D18D640629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8C14E8-AE16-45B7-8AE5-7ED7382AC3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C17474-E345-4790-9ADB-03CA5EAE6E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36E3B-7921-4A0D-B77F-DB003D5DEE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E25EA-E3CB-46EE-B758-BFDC96D14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A6544-2111-4295-B233-A409B2B21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D4080-A23D-4E18-9002-36602FC20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E0AD8-7200-41AF-BC15-0D76999DF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8255B-9222-44EE-8108-66E5E0317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5FD48-960F-47A2-A8BE-193E291E7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7BD904-EE42-45C3-9DDB-252905B684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CCD29-0BCD-4D46-B4D7-CE00677C8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2EAA3-1110-4DDE-BFA3-B98DEE016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A5189-8655-431E-BB70-357BE11CE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9E3698-1FB2-4302-843F-22215383C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0EACB-9A83-4346-91E9-50E4A35B96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0245A8-956D-4CDC-8EC8-A8A082FF67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54AF15-3816-4277-939D-D78E959EE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DDC08A-54A8-4F39-BA93-49C57D7114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4F1F69-841B-4C11-9588-349093077C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D804D4-77E5-40E0-91D4-79D7C4B075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3BBB7D-FA56-491D-B48C-DC984C303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9BBE92-A9FB-4F5C-8F1A-F3E1D06A55A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6100-DE6B-40CC-A90F-4DBA7DBC07C9}"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65328-35E1-4BF1-A227-3A3F67AEA6A7}"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019F0410-F06E-4CA6-AE40-B0B5AFDA5D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B806E51B-EC37-402E-9A64-E21975D0C2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B1F40AD3-9FC9-4E7F-B7D8-2B44DCA0D8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3B40AAA3-BC73-4992-A071-AF260D4A74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277E7FC-0EB1-4E35-A9AA-7A5E2F8D39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59FE3148-BA67-4837-A16C-E21BEB8BB7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0FA16CE3-1A85-4F47-ADEF-52EFD5BF6991}"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2E4E20D0-5E78-4A0C-B4C9-04C5A29F7E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D732E2B5-80C7-4790-85B6-8FDE50387C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9A398185-BFF5-4A16-B6CC-7ADF069A94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9540D8AB-C4DB-41C4-ADB8-E0884A6FD6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8600" y="2789280"/>
            <a:ext cx="4724280" cy="3373560"/>
          </a:xfrm>
          <a:prstGeom prst="rect">
            <a:avLst/>
          </a:prstGeom>
          <a:ln w="0">
            <a:noFill/>
          </a:ln>
        </p:spPr>
      </p:pic>
      <p:sp>
        <p:nvSpPr>
          <p:cNvPr id="153"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154"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155"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15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5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162"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5AF7DAF3-BD45-4C97-A969-6958CAE1CD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165"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166"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16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6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304920" y="2438280"/>
            <a:ext cx="4114800" cy="3826080"/>
          </a:xfrm>
          <a:prstGeom prst="rect">
            <a:avLst/>
          </a:prstGeom>
          <a:ln w="0">
            <a:noFill/>
          </a:ln>
        </p:spPr>
      </p:pic>
      <p:sp>
        <p:nvSpPr>
          <p:cNvPr id="173"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174"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175"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4CCC6E15-E974-4320-9E66-57796C83B0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741240" y="2133720"/>
            <a:ext cx="8402760" cy="4084200"/>
            <a:chOff x="741240" y="2133720"/>
            <a:chExt cx="8402760" cy="4084200"/>
          </a:xfrm>
        </p:grpSpPr>
        <p:sp>
          <p:nvSpPr>
            <p:cNvPr id="179"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80"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81"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82"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83"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84"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85"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86"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87"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88"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89"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90"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91"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92"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93"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94"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95"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96"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97"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98"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99"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200"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201"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202"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203"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204"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205"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206"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209"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210"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211"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212"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213"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214"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215"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216"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217"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21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001D932-6674-4E79-B379-0365D79268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838080" y="1905120"/>
            <a:ext cx="7467840" cy="4303440"/>
          </a:xfrm>
          <a:prstGeom prst="rect">
            <a:avLst/>
          </a:prstGeom>
          <a:ln w="0">
            <a:noFill/>
          </a:ln>
        </p:spPr>
      </p:pic>
      <p:sp>
        <p:nvSpPr>
          <p:cNvPr id="224"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225"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27"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28"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29"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30"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32"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3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3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4509CF2B-7042-4CEE-B1DC-F0E8EC833E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disasi</cp:lastModifiedBy>
  <cp:lastPrinted>2004-08-09T23:39:53Z</cp:lastPrinted>
  <dcterms:modified xsi:type="dcterms:W3CDTF">2004-10-11T18:25:43Z</dcterms:modified>
  <cp:revision>26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1724858</vt:r8>
  </property>
  <property fmtid="{D5CDD505-2E9C-101B-9397-08002B2CF9AE}" pid="3" name="_AuthorEmailDisplayName">
    <vt:lpwstr>Diego Isasi</vt:lpwstr>
  </property>
  <property fmtid="{D5CDD505-2E9C-101B-9397-08002B2CF9AE}" pid="4" name="_EmailSubject">
    <vt:lpwstr>Presentación para profesores y periodistas 7-10-04.ppt</vt:lpwstr>
  </property>
</Properties>
</file>